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77E-39B6-4886-A72D-22245E36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94F-44E8-472B-AF69-288C9370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99D-F476-48A2-9C4C-6D53108F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71F-45CC-4C62-838E-998FF190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6F8-D02E-4430-BA9C-ED189388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9AE-9BB1-46CE-A1E8-D34ECE31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6AC-09E2-45CE-97C5-0BA09A4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C83-465A-4AAF-942C-654A53EB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06F-E120-48FD-A547-75A485D1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1F3-D7A5-48A8-A6CD-B8F9B37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08E-B6CB-4A3D-9D97-0669EBF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1BF-7A97-4B89-9DB2-524D178E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37A5B-1C9F-461C-B637-5AC4458B14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C83D3-2A17-40AA-AE46-B143FF4EC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. Roth drops a pen and it fall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the autumn, the leaves fall from the tree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neisha throws a basketball into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. Roth drops a pen and it fall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the pen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the autumn, the leaves fall from the tree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a leaf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neisha throws a basketball into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the basketball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ik slides across the flo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occer ball rolls toward a go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yla applies the break to the wheel of her bi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ik slides across the flo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hi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occer ball rolls toward a go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ball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yla applies the break to the wheel of her bi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her bike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etal top spins in the air above a magn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two forces are acting on the c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magnets move away from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ail moves toward a magn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giant magnet picks up a car in a junk ya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two forces are acting on the c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magnets move away from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the magnets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ail moves toward a magn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speed of the nail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erson opens his parachute as he fall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two forces are acting on the parachu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 airplane flies through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force is acting on the front of the airplan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ootball flies through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than gravity, what force is acting on the football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erson opens his parachute as he falls to the groun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person’s speed increase or decrease after the parachute is open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 airplane flies through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airplane’s speed increase or decrease because of dra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ootball flies through the a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drag cause the football’s speed to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acting force on this obj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l the object’s speed increase or decreas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1:29:00Z</dcterms:created>
  <dc:creator>Caroline Roth</dc:creator>
  <dc:description/>
  <dc:language>en-US</dc:language>
  <cp:lastModifiedBy>Caroline Roth</cp:lastModifiedBy>
  <dcterms:modified xsi:type="dcterms:W3CDTF">2011-02-21T00:13:19Z</dcterms:modified>
  <cp:revision>7</cp:revision>
  <dc:subject/>
  <dc:title>Slide 1</dc:title>
</cp:coreProperties>
</file>